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C27-FFEB-4C9C-A4FF-9E9079A3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3FDC-45C2-450D-A626-94D4EC23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8745-D69B-4251-A056-6CA65CEE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EDE4-B4E2-4635-A6F9-1C6B0B9E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F3E-17D6-4389-9184-B15067CF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19E-A210-47D4-96FD-7D99C5E8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61BF-F02D-4C9B-95E8-4A2F3047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06A-E047-42DD-AB57-BEBF7969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6ADD-6B0C-4617-A4FF-6508529B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A53-6CC7-4CEA-B658-4194EBDB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D580-9A8D-455E-B072-AA24761B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C91A-F791-4573-8512-2232C288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D1A9-5573-471C-8528-225D9499AB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king proteins – one of the jobs of g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ow does the mRNA know when to start and when to stop rea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pecial codons that tell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nual pg 71. The genetic co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olypeptides and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long chain of amino acids is called a polypeptide (many peptide bonds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ometimes a protein is made of several polypeptides joined together. This will require information from the same number of g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ne chromosome has many genes in the exon s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ach gene codes for one polypeptide ch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group of genes that code for the protein are called a transcription un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ichael pg 84 introns and ex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1387800">
            <a:off x="-1405080" y="1989000"/>
            <a:ext cx="1147464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ole pictur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nual pg 7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otein synthesis and Replication together Manual pg 7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ell organelle that is the site of protein 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the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inked by endoplasmic reticul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o vesicles that release/secrete the protein the ribosom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896472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wo problems –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location and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code for the protein is in the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chromosomes are in the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ow does the info get from the chromosomes in the nucleus to the ribosomes in the cytoplas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wo problems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location and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code is written in nucleotide bases and proteins are built out of amino ac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ow does the chromosome alphabet get changed into structures that join up to make prot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ach group of 3 nucleotide bases in the DNA is called a tripl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triplet can’t leave the nucleus, so another nucleic acid comes to the nucleus to rea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ranscription (using the same co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is messenger is called m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three bases that match the DNA triplet are called a cod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.g   DNA       TGC   GGA  CCG  G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RNA     ACG   CCU   GGC  CU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nual pg 8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ranslation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(changing to a new co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t the ribosome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codon comes in and brings the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tRNA reads the codon and goes off to get the right Amino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Amino Acids are linked together inside the ribosome to form the pro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nual pg 86, 8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65760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95640" y="1628640"/>
            <a:ext cx="489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NA is transcripted to make messenger RNA (m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3645000"/>
            <a:ext cx="445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RNA is translated to make a polypept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04:08:04Z</dcterms:created>
  <dc:creator>Ministry of Education</dc:creator>
  <dc:description/>
  <dc:language>en-US</dc:language>
  <cp:lastModifiedBy>Ministry of Education</cp:lastModifiedBy>
  <dcterms:modified xsi:type="dcterms:W3CDTF">2009-07-09T09:21:49Z</dcterms:modified>
  <cp:revision>6</cp:revision>
  <dc:subject/>
  <dc:title>Protein Synthesis</dc:title>
</cp:coreProperties>
</file>